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712-8645-4A8D-AB48-E7A1E502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0E8-D8CF-4503-BBDC-E13C847C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B8E-9260-4717-B538-4490DAE4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811-FE31-4D52-9888-07837BF4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C8CB-DF10-4633-AE1C-6538EDA8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1065-F2A5-4E46-87CE-E67DFF12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0469-58FA-4CC2-99CB-F20F4ABC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3D0D-711F-43C4-B634-F44C58AD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48C8-EEFC-470C-A792-1A3D0C7F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B2AF-B1BF-4848-B1CB-5B529938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CDE4-1172-449B-8D1F-EB7DDC1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242-1307-4944-B734-F9B8557C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670D-4196-4A24-A770-A6A7048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439D-7422-49AF-A02B-8754034B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15B4-3D44-460E-9810-40DD48F7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7BF1-A36E-45D0-90B0-55D68C23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CBD1-AC3D-4E0E-BA4F-D9CDFF1D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DA3-60C6-49FE-A0A0-F420437F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E72-A02E-48CD-9557-2A4216F8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B84-B9BE-4D3D-909F-3C7E098B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135-86C8-41E2-9382-4C035A51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156-ACEA-412A-A4BE-3D6465A8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EE6-3759-4B69-AD0C-7A8760FE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878-2C04-4CDD-B55F-9410735C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E7DB-36B9-4BDF-BB16-8B11BDE2818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6D7C-EC94-4F9A-B3E1-6885A7F3783B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rnet Safety @ H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88600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S PTA Presentation – 23 November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 it safe out ther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at to look out for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ornograph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nline Predator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yber-bully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nline Gambl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an you do to keep them saf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alk with the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e open about what concerns you and what types of content you don’t want them view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sk them what they do when they are onlin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peak to them about what kind of information they and others share onlin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stablish some rules or guidelines about time and/or what they d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an you do to keep them saf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ntrol acce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ere is the computer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ow much time are they allowed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an you disconnect them, if necessary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onger Meas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lter Softwar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ntent Provider” – endorsed by Disney and reviewed highly by Top Ten reviews:  US$40 per ye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K9 Web Protection from Blue Coat, supplier to Fortune 500 companies so for homes it’s Free!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Keep in mind that filter software is not perfec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636800" cy="6172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0" y="1600200"/>
            <a:ext cx="228600" cy="228600"/>
          </a:xfrm>
          <a:prstGeom prst="star5">
            <a:avLst/>
          </a:prstGeom>
          <a:solidFill>
            <a:srgbClr val="68a2b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495680"/>
            <a:ext cx="228600" cy="228600"/>
          </a:xfrm>
          <a:prstGeom prst="star5">
            <a:avLst/>
          </a:prstGeom>
          <a:solidFill>
            <a:srgbClr val="68a2b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025880"/>
            <a:ext cx="228600" cy="228600"/>
          </a:xfrm>
          <a:prstGeom prst="star5">
            <a:avLst/>
          </a:prstGeom>
          <a:solidFill>
            <a:srgbClr val="68a2b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952880"/>
            <a:ext cx="228600" cy="228600"/>
          </a:xfrm>
          <a:prstGeom prst="star5">
            <a:avLst/>
          </a:prstGeom>
          <a:solidFill>
            <a:srgbClr val="68a2b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609588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ahoma"/>
              </a:rPr>
              <a:t>From “Do You Know Where Your Kids are Clicking”, by Alan Cohen, PC Magazine, July 2006.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other prior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real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world is worth participating in to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mind your children about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being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a human being – balancing their liv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electronic world can be pretty consum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lance requires that they sleep, eat, exercise and leave their rooms to thriv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member that soon enough they will be on their own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ork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with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them to become smart, responsible, safe web participant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VERYTHING will change even more in the coming years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ssential 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do we the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digital immigrants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understand, participate in, and monitor the world of our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digital native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children to ensure their safety?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’s 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Your children are “Digital Natives”  - what does that mean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at are your children doing on the internet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s it safe out there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at can you do to keep your child safe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Questions &amp; (hopefully) Answ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r children are ‘wired’ different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Visual cortex in the brain of the kids today is 15% larger than of kids 10 years ago. They process information differently. They are DIGITAL NATIVE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gital Na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nyone born after 1985 is a digital nativ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45280" y="2286000"/>
            <a:ext cx="257940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81480" y="53341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ersonal computers are already 10 years old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95280" y="2286000"/>
            <a:ext cx="312444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ir Lifeti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505320"/>
            <a:ext cx="8077320" cy="0"/>
          </a:xfrm>
          <a:prstGeom prst="line">
            <a:avLst/>
          </a:prstGeom>
          <a:ln w="7632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990720" y="2514600"/>
            <a:ext cx="0" cy="9907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73988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1990 - Tim Berners-Lee writes World Wide Web progra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447048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1996 - Palm pilots go on the market… computing becomes mobil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619440" y="3505320"/>
            <a:ext cx="0" cy="9144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676520"/>
            <a:ext cx="35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1999 - Sean Fanning, creates Napster… suddenly everyone is sharing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514600"/>
            <a:ext cx="0" cy="9907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95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2002 - the iPod is unveiled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3505320"/>
            <a:ext cx="0" cy="99036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now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1997-2005 has brought us: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log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iki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YouTub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ocial network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o you know what these are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Your children do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gital Na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Your children are not u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average college graduate no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as spent less than 5,000 hours read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as spent more than 10,000 hours playing video gam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as spent 20,000 hours watching T.V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-mail is old-technology to the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does knowing this impact what we do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your children do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chool work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Word processing, spreadsheets, presentations, simulation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Research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ocializin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ySpace – social networking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haring files (torrents) – music, video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eeting peopl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ating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ownloading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Gamin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Virtual world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Passing tim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Online Gambling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Exploring Interests/Question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Appropriate and inappropriate conten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03:13:40Z</dcterms:created>
  <dc:creator>dennish</dc:creator>
  <dc:description/>
  <dc:language>en-US</dc:language>
  <cp:lastModifiedBy>dennish</cp:lastModifiedBy>
  <dcterms:modified xsi:type="dcterms:W3CDTF">2006-11-22T17:42:34Z</dcterms:modified>
  <cp:revision>27</cp:revision>
  <dc:subject/>
  <dc:title>Internet Safety @ Home</dc:title>
</cp:coreProperties>
</file>